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DA2-3841-474F-AC71-7FBDEF4AA7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8202-F25A-4DE5-B3AD-0C652F4EE2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D75-0E60-49D0-AED2-58DA7A94E2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F00E-82A7-44C7-A9B2-3D7DF1F0FC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F26D-C7DD-4EB5-B8D5-83007EF894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íngguǒ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8320" y="5189400"/>
            <a:ext cx="62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这本书多少钱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권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책을 세는 단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0" y="510012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六块一角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1400" y="6609960"/>
            <a:ext cx="62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지아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块两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毛</a:t>
            </a: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件衣服多少钱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72440"/>
            <a:ext cx="6267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벌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옷을 세는 단위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n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옷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一百块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백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100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너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贵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不便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iány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28400" y="636696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팔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一点儿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便宜一点儿吧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水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잔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ē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茶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á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张纸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要两张纸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종이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太饱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배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快一点儿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빠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慢一点儿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느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130720"/>
            <a:ext cx="6858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打折吗？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격을 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zh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售货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姐姐是售货员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판매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òuhuò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三块一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要三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要几斤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필요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一共要三斤苹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모두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합해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g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共多少钱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两元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590400" y="633636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uán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1:32Z</dcterms:modified>
  <cp:revision>207</cp:revision>
  <dc:subject/>
  <dc:title>슬라이드 1</dc:title>
</cp:coreProperties>
</file>